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%5B1%5D.wav" ContentType="audio/x-wav"/>
  <Override PartName="/ppt/media/applause.wav" ContentType="audio/x-wav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E4C-942F-4FF7-A1AF-6BE2820B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5AB-26CF-4CEE-BCDC-CEF83132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620-D302-4B9E-B9C2-9349F53F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225-8C05-45EF-A22A-3D2FC5CA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106C-DCC1-4B40-AACD-55EBC9D2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0A5-1F5C-4A24-A3E5-CE91A23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4C4C-17B1-43D8-BA2E-5B1B6E3C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EF49-8378-4B49-861F-1DE8AC4F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16D-01B7-4C97-A452-C8FAF5F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56A8-7A54-4D46-B69D-CBC1B79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E579-C5A6-4A6B-9CC8-9C9824A5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23E-C566-46F1-BCB5-8472C429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CF30-CD9D-44B6-87B9-EFB0A4C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5A97-C9F9-4366-A1AC-5C1A0F3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E307-4FDE-4093-9839-357C0F78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2ADE-02CD-4D81-8602-7FA02159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56A3-DE76-42AF-8662-9760EF22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761-07B6-453B-A443-8ED7869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F86-586A-4679-968F-A91E94E1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6B2-F3C9-4D7A-8A49-255A251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40B-9F4D-4F45-860D-C75D284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A80-13E8-41A0-8070-7ABD766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461-91C9-4549-ADA7-C07916D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4D0-3965-4EDF-83B7-3C618BA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22B1-6C02-43D5-9BD7-7B69189C2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699C-A751-4717-A8DB-4C4E6A717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%5B1%5D.wav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76320" y="533520"/>
            <a:ext cx="55152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How To Do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n  A. P. Euro.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828800" y="40384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D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4038480"/>
            <a:ext cx="121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B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00800" y="40384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Q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362320" y="5867280"/>
            <a:ext cx="48765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Hot Pizza"/>
              </a:rPr>
              <a:t>Ms. Susan M. Pojer</a:t>
            </a:r>
            <a:endParaRPr b="0" lang="en-US" sz="2000" spc="1" strike="noStrike">
              <a:ln w="19080">
                <a:solidFill>
                  <a:srgbClr val="ff99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Hot Pizza"/>
              </a:rPr>
              <a:t>Horace Greeley HS   Chappaqua, NY</a:t>
            </a:r>
            <a:endParaRPr b="0" lang="en-US" sz="2000" spc="1" strike="noStrike">
              <a:ln w="19080">
                <a:solidFill>
                  <a:srgbClr val="ff99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4300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658880"/>
            <a:ext cx="86104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spcBef>
                <a:spcPts val="2001"/>
              </a:spcBef>
              <a:buClr>
                <a:srgbClr val="00c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Authorial Point of View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show awareness that the gender, occupation, class, religion, nationality, political position or ethnic identity of the author could influence his/her view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4295880"/>
            <a:ext cx="70106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does this apply to the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 has the author written what he/she h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07324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0200" y="2957400"/>
            <a:ext cx="72802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Balthasar Rusow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 Lutheran pastor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was naturally upset by the celebration of a Saint’s Day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since Lutherans don’t venerate saint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4300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5724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Reliability and accuracy of each source referenced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a source for its reliability and accuracy by questioning if the author of the document would be in a position to be accu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149800"/>
            <a:ext cx="6477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ight this help you answer the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0" name=""/>
          <p:cNvSpPr/>
          <p:nvPr/>
        </p:nvSpPr>
        <p:spPr>
          <a:xfrm>
            <a:off x="581040" y="1814400"/>
            <a:ext cx="3000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698920"/>
            <a:ext cx="7543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Niccolo Machiavelli’s book on the political tactics of a Renaissance prince was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probably accurate as he observed the behavior of the prince, Cesare Borgia, for man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101680"/>
            <a:ext cx="8001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74772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Tone or Intent of the Author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the text of a document to determine its tone (satire, irony, indirect commentary, etc.) or the intent of the author. Especially useful for visual documents, like art work or political carto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4300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01132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895480"/>
            <a:ext cx="7051680" cy="283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In his great sculpture of “David,” </a:t>
            </a: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Michelangelo wanted to convey the confidence, and even arrogance, of Renaissance Florence</a:t>
            </a: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 at the peak of its cultural influence in 16</a:t>
            </a:r>
            <a:r>
              <a:rPr b="1" i="1" lang="en-US" sz="30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 Euro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219320" y="6858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408400"/>
            <a:ext cx="76201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spcBef>
                <a:spcPts val="2001"/>
              </a:spcBef>
              <a:buClr>
                <a:srgbClr val="00c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Grouping of Docs. by Author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show an awareness that certain types of authors, simply by their authorship, will express similar views when you group documents by type of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5280" y="533520"/>
            <a:ext cx="6782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08764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0200" y="2895480"/>
            <a:ext cx="7280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s Northern Renaissance humanist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Erasmus, Sir Thomas More, and Cervantes all poked fun at the foibles and scandals of late medieval society as well as of thei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680" y="38088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How to Reference a Document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n Your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362320"/>
            <a:ext cx="79246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Baldassare Castiglione, in </a:t>
            </a:r>
            <a:r>
              <a:rPr b="1" i="1" lang="en-US" sz="2800" spc="-1" strike="noStrike">
                <a:solidFill>
                  <a:srgbClr val="ff896d"/>
                </a:solidFill>
                <a:latin typeface="Comic Sans MS"/>
              </a:rPr>
              <a:t>The Handbook of the Court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said:  “…………………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Erasmus of Rotterdam, a northern Christian humanis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agreed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19c historian, Jacob Burkhardt, felt that ………………….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(Doc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943600"/>
            <a:ext cx="7848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cc00"/>
                </a:solidFill>
                <a:uFillTx/>
                <a:latin typeface="Comic Sans MS"/>
              </a:rPr>
              <a:t>NEVER</a:t>
            </a: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 begin with:  </a:t>
            </a:r>
            <a:r>
              <a:rPr b="1" i="1" lang="en-US" sz="3000" spc="-1" strike="noStrike">
                <a:solidFill>
                  <a:srgbClr val="ff896d"/>
                </a:solidFill>
                <a:latin typeface="Comic Sans MS"/>
              </a:rPr>
              <a:t>In Document 3, 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609480"/>
            <a:ext cx="7696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4019400"/>
            <a:ext cx="7010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Bottom Bun”</a:t>
            </a: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 of your ess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It holds it all together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3-4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45720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 "Dazzling" D. B. Q.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s Like a Tasty Hamburger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80880"/>
            <a:ext cx="7620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581120"/>
            <a:ext cx="86868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Restate your thesis statement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Comic Sans MS"/>
              </a:rPr>
              <a:t>a bit differently</a:t>
            </a: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886200"/>
            <a:ext cx="73911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500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Beginning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some trend/movement/ide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90720" y="457200"/>
            <a:ext cx="73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Put It All Together And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9528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Ummm...Burger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295280" y="54864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 Mean, "Dazzling"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8f"/>
                </a:solidFill>
                <a:latin typeface="Comic Sans MS"/>
              </a:rPr>
              <a:t>Create a rough draft in outline form using this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687840"/>
            <a:ext cx="739116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Skip a line from your intro.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dentify the “theme”/thesis of this first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“meat”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underline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US" sz="2200" spc="-1" strike="noStrike">
                <a:solidFill>
                  <a:srgbClr val="0dff0d"/>
                </a:solidFill>
                <a:latin typeface="Comic Sans MS"/>
              </a:rPr>
              <a:t>highlight</a:t>
            </a:r>
            <a:r>
              <a:rPr b="1" lang="en-US" sz="2200" spc="-1" strike="noStrike">
                <a:solidFill>
                  <a:srgbClr val="e02b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ndent bullets listing all facts/doc. info.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nd other </a:t>
            </a:r>
            <a:r>
              <a:rPr b="1" lang="en-US" sz="2200" spc="-1" strike="noStrike">
                <a:solidFill>
                  <a:srgbClr val="0dff0d"/>
                </a:solidFill>
                <a:latin typeface="Comic Sans MS"/>
              </a:rPr>
              <a:t>“o.i.”s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that you will need in tha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hen done with tha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, skip a line and do the same for the other “meat”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20968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Write out your introductory paragrap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Create a loose outline of your “meat” </a:t>
            </a:r>
            <a:r>
              <a:rPr b="1" lang="en-US" sz="25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s in this mann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2286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For Homework Tonight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752480"/>
            <a:ext cx="8076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Skip a line after your last “meat” </a:t>
            </a:r>
            <a:r>
              <a:rPr b="1" lang="en-US" sz="30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 and write you concluding </a:t>
            </a:r>
            <a:r>
              <a:rPr b="1" lang="en-US" sz="30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 out in fu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Bring your outline into class tomorrow and I will divide the class up into small “peer review” grou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You will then read over the outlines of the other group members and make suggestions/corrections IN A CONSTRUCTIVE MAN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For Homework Tonight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5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143000"/>
            <a:ext cx="822960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Write out your introductory paragraph in full,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underlining your thesis statement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1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Different info. from the same document (Doc-E)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2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3049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Outline Should Look Like This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1539720"/>
            <a:ext cx="8001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3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formation from another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w information from the same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Write out your concluding paragraph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400" y="45720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Outline Should Look Like This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8080" y="457200"/>
            <a:ext cx="7543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Now, Write Your Essay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nd "Dazzle" Me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With Your Brilliance !!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895840" cy="24926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9" repeatCount="2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45720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44792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38280" y="457200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Top Bun”</a:t>
            </a: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 of your essay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4-6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30492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822320"/>
            <a:ext cx="7620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tablish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reate a clear,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ude to the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 categories you will discuss to support your thesis stat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890960"/>
            <a:ext cx="3352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96d"/>
                </a:solidFill>
                <a:latin typeface="Comic Sans MS"/>
              </a:rPr>
              <a:t>No “laundry list!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533520"/>
            <a:ext cx="7848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4960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tasty” par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your essay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8-12 sentences+ per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3049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27240"/>
            <a:ext cx="8381880" cy="547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 most of the documents given [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70%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sure to indicate 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Point-of-Vi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POV)/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ing in supportive outside information [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o.i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].  </a:t>
            </a:r>
            <a:r>
              <a:rPr b="1" i="1" lang="en-US" sz="2800" spc="-1" strike="noStrike" u="sng">
                <a:solidFill>
                  <a:srgbClr val="ff896d"/>
                </a:solidFill>
                <a:uFillTx/>
                <a:latin typeface="Comic Sans MS"/>
              </a:rPr>
              <a:t>This is critic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3049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Questions to Ask Yourself About the Document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71600"/>
            <a:ext cx="8381880" cy="429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96d"/>
                </a:solidFill>
                <a:latin typeface="Comic Sans MS"/>
              </a:rPr>
              <a:t>Attribution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point of view (</a:t>
            </a:r>
            <a:r>
              <a:rPr b="1" lang="en-US" sz="2600" spc="-1" strike="noStrike">
                <a:solidFill>
                  <a:srgbClr val="ff896d"/>
                </a:solidFill>
                <a:latin typeface="Comic Sans MS"/>
              </a:rPr>
              <a:t>POV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216480"/>
            <a:ext cx="85345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055960"/>
            <a:ext cx="7848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Attribution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ite the author by name, title, or position, if possible.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489480"/>
            <a:ext cx="64771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y is this person and document selec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How does it help me answer the ques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05740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63400" y="2905200"/>
            <a:ext cx="66790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John Tyler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n English writer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said: “...”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Dominican monk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in Florenc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scribe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supojer</cp:lastModifiedBy>
  <dcterms:modified xsi:type="dcterms:W3CDTF">2007-09-27T18:38:59Z</dcterms:modified>
  <cp:revision>105</cp:revision>
  <dc:subject/>
  <dc:title>How to Do an EHAP DBQ</dc:title>
</cp:coreProperties>
</file>